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F4C-B981-4EAB-959D-730F38D7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7DCB-A55B-4C77-B636-6027C5CB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E164-4C39-484F-91EA-80634C98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45A1-693F-409A-BFA4-6CBCF02B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67BE-5098-4252-BD2A-05ED392D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5A43-56AC-4344-A04B-002BE29A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2F76-6F0E-447A-B22F-EBED21D1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59AD-F4E8-4EAF-BA30-11FE4B99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AE02-282E-4191-A16C-0289C844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1218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32E8-15D0-4E3E-81D7-8B2BD211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2F61-5917-4F81-A30D-89749B58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3C8C-A9A3-4A0F-9C6D-F8DA2D2B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A919-6CB6-46B4-8CA7-3DA38C63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36AD-EFEC-4E18-A0AE-59729A71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64A1-FBA9-4D61-9014-2DE3E6CD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BDDA-765F-4E91-AE96-702CC74E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384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59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384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59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501E-C015-48DF-B6DD-CEE93413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91A-B7DF-4CE2-BDD3-68110EC5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7A5F-89E5-4085-BF73-A37C6959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63F5-C76B-41B7-AE96-2D8C11FB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218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EE4-1C7F-4029-9260-150CB57F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41E3-0074-4411-B3C7-441FA5D9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D06-4724-495B-8410-583948F5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76C5-6A7A-437B-A409-61C8A290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21E0-4DDA-4F6B-A2AB-A201E7AE4089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4253-3ECA-4363-AFCA-81914284DE53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chin"/>
              </a:rPr>
              <a:t>Frankenstei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40381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Ethical dilemma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chin"/>
              </a:rPr>
              <a:t>Ethical dilemma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What are ethical dilemma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A situation with a conflict that has two (or more) morally different ways/choi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chin"/>
              </a:rPr>
              <a:t>Examples of ethical dilemma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Can be big issues like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Abor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Wars - killing innocent people to get to the bad guy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Cloning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Can be small issues like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Telling a small lie or being unkin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Making choices between your friend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chin"/>
              </a:rPr>
              <a:t>Frankenstein’s ethical dilemma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Is it acceptable to create a living creature from leftover human parts?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Is it acceptable to allow a beast to join society or to kill the beast who has human qualities?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5:37:37Z</dcterms:created>
  <dc:creator>nps</dc:creator>
  <dc:description/>
  <dc:language>en-US</dc:language>
  <cp:lastModifiedBy>nps</cp:lastModifiedBy>
  <dcterms:modified xsi:type="dcterms:W3CDTF">2011-10-18T15:49:44Z</dcterms:modified>
  <cp:revision>1</cp:revision>
  <dc:subject/>
  <dc:title>Frankenstein</dc:title>
</cp:coreProperties>
</file>